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spacesound3.wav" ContentType="audio/x-wav"/>
  <Override PartName="/ppt/media/jetflyby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5BA-129B-48B3-ADFA-8AAC0F1A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5E9-88C4-4719-AE46-DA5543DA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BA8-8EC3-4432-9B73-48ADAD91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AC9-AFEB-4FA5-AED4-ADB57FA0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206-F6F0-4B99-A6C1-9849FC5E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88B-76DF-4927-87B6-F49D794C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533-45FC-40BD-88FB-ACA0020C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7D7-DABC-4415-B24F-8021DDC2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A04-0F66-43C6-8FB9-47483790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93F-8B35-4E83-B264-183B4FAC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2D8-67A9-4168-B8FA-13E0BAA1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29B-4CD0-470A-B52F-B7C3FF2F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A3FF-5A30-45F6-A9D4-D9F184A8C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spacesound3.wav"/><Relationship Id="rId8" Type="http://schemas.openxmlformats.org/officeDocument/2006/relationships/audio" Target="../media/spacesound3.wav"/><Relationship Id="rId9" Type="http://schemas.openxmlformats.org/officeDocument/2006/relationships/audio" Target="../media/jetflyby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spacesound3.wav"/><Relationship Id="rId7" Type="http://schemas.openxmlformats.org/officeDocument/2006/relationships/audio" Target="../media/spacesound3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jetflyby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spacesound3.wav"/><Relationship Id="rId7" Type="http://schemas.openxmlformats.org/officeDocument/2006/relationships/audio" Target="../media/spacesound3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6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17440" y="1362240"/>
                <a:ext cx="86137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76280" y="2075040"/>
                <a:ext cx="1316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812960" y="2130480"/>
                <a:ext cx="2052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833400" y="3081240"/>
                <a:ext cx="525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370160" y="3043080"/>
                <a:ext cx="20523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820880" y="4846680"/>
                <a:ext cx="7891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73040" y="3933720"/>
                <a:ext cx="578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901880" y="3924360"/>
                <a:ext cx="11048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6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47760" y="1268280"/>
                <a:ext cx="7627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93640" y="2147760"/>
                <a:ext cx="16318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062080" y="2028960"/>
                <a:ext cx="1211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209680" y="3147840"/>
                <a:ext cx="998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36480" y="3157560"/>
                <a:ext cx="16318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09840" y="5110200"/>
                <a:ext cx="1209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16080" y="4194000"/>
                <a:ext cx="892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96920" y="4110120"/>
                <a:ext cx="10004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6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23840" y="1290600"/>
                <a:ext cx="8077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÷</m:t>
                        </m:r>
                        <m:r>
                          <m:t xml:space="preserve">r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57080" y="2252520"/>
                <a:ext cx="578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31920" y="2182680"/>
                <a:ext cx="20019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89200" y="3119400"/>
                <a:ext cx="998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235160" y="3174840"/>
                <a:ext cx="579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92280" y="4122720"/>
                <a:ext cx="841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6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20760" y="1407960"/>
                <a:ext cx="8823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01560" y="2211480"/>
                <a:ext cx="14716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000160" y="2168640"/>
                <a:ext cx="2844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479760" y="3281400"/>
                <a:ext cx="5796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16120" y="3228840"/>
                <a:ext cx="34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30560" y="5092560"/>
                <a:ext cx="5792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751120" y="4240080"/>
                <a:ext cx="8398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295280" y="4248000"/>
                <a:ext cx="14734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÷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66860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73, 3 – 6 #1-1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9-06T03:11:39Z</dcterms:modified>
  <cp:revision>65</cp:revision>
  <dc:subject/>
  <dc:title>Slide 1</dc:title>
</cp:coreProperties>
</file>